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F50-5AA9-42CE-A657-94FE63C7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538-09F0-40A1-A3AB-A865F7EA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1ED-E4BD-4DC9-9C83-EC87B514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FC-B2B7-4BAB-9B95-74BDAC74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F793-7BE3-4605-A4F7-FCCF120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C960-4966-4009-86EF-CAE817D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B6C-0891-4A90-B356-B2E304A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78FF-A945-4CEF-8337-19C82A97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7B7B-A484-41C1-B995-3DD785F5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5C2A-1987-4E3C-A650-8C676C2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345-9B6D-4AED-8D0B-88B00A38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BCE-21E4-4E56-BF30-95BA6D9F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BB1-21CC-485A-A72E-D738723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C3E3-16A2-4E20-AC28-299D27D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A7A3-16E4-4D51-8330-8E1F1064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6281-C994-4FFF-8F56-F5416A6A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0B8-4702-45FC-A5D5-0A3AB79E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09AE-6538-4C4F-A3AA-149F303F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6EEF-C14E-4E34-93D1-6411329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7ADD-BE58-4532-9860-3F80D81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5D3F-FEA6-43CF-9662-1C22D0A5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B6AC-7C31-40A9-A90B-449105AE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B44-3AF8-4A50-860F-AB6DF98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F7EF-9F67-4559-BCB1-0D536BE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AA65-8799-41A6-8EFE-618E3C2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675D-096F-492D-A7EC-73D552E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FF92-2C0D-40A8-8DB0-0704055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619E-07D0-4DB2-AD58-E9A0E79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6886-BD36-4665-B08C-420DB840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1A7E-90DF-4B0F-83C1-6F4211B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E763-E81F-494D-92BE-244463B9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06D3-4629-4065-BD30-E34DC42A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1599-899E-453F-B6DB-317EB8B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9E5-705B-4590-8E6B-2669BABE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06B1-7ECE-4995-963F-30289F9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0D01B-1207-4E8C-A27E-908154D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F550-47FB-4853-B0AB-96F90236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4F7F-F639-445D-A7F6-FEF78AD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C19C-E4E6-47AE-B451-8821B92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D6E6-86C0-44EB-96BB-5B905F1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EFAD-2D08-4AF6-A60D-892F0B5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393A-7950-44BF-B00E-BADE97E8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E8E4-B4E2-4779-AC9C-70D3A5C6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8A5AD-80B5-442A-A24D-3DF50736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C48-B631-463B-A093-1A8FB06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9689-60EA-4220-B1F3-CB6864E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E035-465D-492C-8849-5F6DF4C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F570-888C-4FE4-8B6A-B1751BF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999F-965F-4B41-A70D-26FF02E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7402-DDDD-45A7-A595-B386510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7B29-2802-4D4F-AD79-E2FFDCC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E988-CB9F-4639-942F-3D336E2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58EF-5F1A-4D17-A48E-2F277A1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D82D-CB1A-4B19-8A5C-93AB9FB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4661-1298-42C5-A665-1200A2B6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F1F-BD84-4890-B1D6-DBC0080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C159-DDC9-4310-AFB7-59D001C5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5920-B107-461A-8D2D-C15FF19C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85D9-828F-43AA-B3DB-10D37AF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5975-95B6-4AC3-B531-6C6B70A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37C3-00B5-4A11-83B0-13157AC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74DC8-B192-413E-B9DD-1315786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1CBC6-7EAB-4292-8836-6AF5159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BE17B-244A-4B94-8927-43B3814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128C-B47E-4A8F-8AA9-AD97191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14D93-8874-4B69-9225-0874267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3A6-AA7C-4F70-AF81-47AC1B3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B2BF-A99F-4AC7-970A-9BC74EA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02AFC-9A87-4BD3-BB8E-5A73CB3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A914-99A9-46D5-8162-552F7DEC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F216-7AEB-4D01-BD83-E013BA68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DF9D-A572-42E8-8D9B-E375AAB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5156F-C631-4204-B437-9603424F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F21C-5FE4-4621-AD48-A8881EFF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D274-B9C4-4D84-B6DF-5DBC2F2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BC16-8DD9-4CE1-B00D-8E94D9ED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DA31-EA2A-4B6E-A234-176407A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032-BE39-47BC-97FE-A97F73E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5E8E-87E9-4C0B-92A5-9917B41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CEAC0-25A8-4576-8D39-82848FB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7780-1D1E-4DD9-870F-C6B3E779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9A8E-D2C7-44D5-981B-90CCF403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CDEE-4ACD-4ADB-BFA4-60C3B7D9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3E0-EB37-4D31-AA81-930DEEE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1CF1-9E32-45D4-8269-D1BF9EF295A5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494-53F8-497D-8318-E5E5604ADCD5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9B9-4947-4210-835D-CBF89E4DD65E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8FC-1C07-40F4-A802-69FF87007D3A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0950-C707-4610-BC50-504A613AD615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083-F275-4E2A-A913-D2BBEA7C28D3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7CA-6323-4481-999E-15FFA44C1EFB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hapter 13: pages 386-389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55627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56"/>
                </a:solidFill>
                <a:latin typeface="Gill Sans MT"/>
              </a:rPr>
              <a:t>By: Gabby Bloom, Claire Fishman, Casey Lee, and Laurel McKern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5" descr="http://www2.chemistry.msu.edu/faculty/reusch/virttxtjml/Images/boltz1.gif"/>
          <p:cNvPicPr/>
          <p:nvPr/>
        </p:nvPicPr>
        <p:blipFill>
          <a:blip r:embed="rId1"/>
          <a:stretch/>
        </p:blipFill>
        <p:spPr>
          <a:xfrm>
            <a:off x="1981080" y="1905120"/>
            <a:ext cx="545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Gas Press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as pressu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sult of simultaneous collisions of billions of rapidly moving particles in a gas with an ob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 Hairspray (aerosol ca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acuum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n empty space with no particles and therefore, no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tmospheric Pressu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llision of atoms and molecules with ai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creases as elevation incre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Barometer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asures atmospheric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eight of the mercury column in the tube depends on the pressure exerted by particles in the air colliding with the surface of the mercury in the di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5" descr="http://0.tqn.com/d/weather/1/0/-/1/-/-/Barometer.gif"/>
          <p:cNvPicPr/>
          <p:nvPr/>
        </p:nvPicPr>
        <p:blipFill>
          <a:blip r:embed="rId1"/>
          <a:stretch/>
        </p:blipFill>
        <p:spPr>
          <a:xfrm>
            <a:off x="4038480" y="4267080"/>
            <a:ext cx="1600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Units of Press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ascal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ndard unit of press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ndard atmosphere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essure required to support 760mm of mercury in a mercury barometer 25 degrees Celsi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www.ucolick.org/~bolte/AY4_00/week6/gas_pressure.gif"/>
          <p:cNvPicPr/>
          <p:nvPr/>
        </p:nvPicPr>
        <p:blipFill>
          <a:blip r:embed="rId1"/>
          <a:stretch/>
        </p:blipFill>
        <p:spPr>
          <a:xfrm>
            <a:off x="3429000" y="3886200"/>
            <a:ext cx="4915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Kinetic Energy and Temperature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inetic Energy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the energy an object in mo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inetic Theory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matter consist of tiny particles that are constantly in mo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inetic energy is directly related to heat therefore the more heat there is the more energy there is and vice vers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More energy= more motion= higher tempera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b8d"/>
                </a:solidFill>
                <a:latin typeface="Gill Sans MT"/>
              </a:rPr>
              <a:t>Average Kinetic Energy and Kelvin Temperature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lvin temperature scale reflects the relationship between temperature and average kinetic energ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Kelvin temperature of a substance is directly proportional to the average kinetic energy of the particles of the subs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The particles of helium gas at 200K have twice the average kinetic energy as the particles in helium at 100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3:52:06Z</dcterms:created>
  <dc:creator>14cfishman</dc:creator>
  <dc:description/>
  <dc:language>en-US</dc:language>
  <cp:lastModifiedBy>14cfishman</cp:lastModifiedBy>
  <dcterms:modified xsi:type="dcterms:W3CDTF">2012-04-26T14:01:00Z</dcterms:modified>
  <cp:revision>8</cp:revision>
  <dc:subject/>
  <dc:title>Chapter 13: pages 386-389</dc:title>
</cp:coreProperties>
</file>